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A42F-A88E-436C-B8AE-51E27CB3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76C8-1BDE-4913-B5E9-F25EAD3C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B69A-560F-475C-BD87-40683FB6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D3F9-50B8-42BC-AB37-5FDE0B84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8883-9474-42DF-A0A1-B4933EB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6888-0993-49D5-BC8C-9DB052B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BAB-F5EA-40DF-8099-33B94850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700-010F-4E9C-903B-5F0EB5D0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068B-8284-4FA6-9395-C1F08EC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67D9-BEE1-4C2C-B2D1-613F720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250-0134-48B4-A598-D3AFC35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C588-3720-444C-AB97-A635FD48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9619-9016-465E-A2FE-74693A3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C60-5427-4B14-90CC-5CF265B9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844-586D-4C20-B4CB-021F7D58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C2FC-9AAD-436F-A6BA-9B6E3A66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3AE4-871E-4754-BF4C-2E480C8B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653F-7E5B-40D9-B6DF-146E3A1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E695-D927-4FAA-A960-8EE3439D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A727-D7B6-4715-B854-C46A669F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F78E-D4D2-4B1E-A048-3F78050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D9E6-8A65-48BA-9D19-193B92C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85F7-78DC-426E-B68D-F87A1CB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C574-2AA0-463F-89B8-2A0C616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FFF-024C-4F62-8854-B2215D57FB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B0BC-93B1-4954-9786-C19BEB93BE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Tahoma"/>
              </a:rPr>
              <a:t>«Зелёный свет мечты и надежды»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Tahoma"/>
              </a:rPr>
              <a:t>(по рассказу А. Грина «Зелёная лампа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фой Елена Анатольевна, студентка 4 курса филологического факультета КГПИ,  г. Сыктывкар 201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чему А. Грин назвал рассказ                   «Зелёная лампа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Основополагающий вопрос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Проблемные вопросы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тема рассказа «Зелёная ламп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идея рассказа «Зелёная ламп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была зелёная лампа для Стильто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 что наказан Стильто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стала для Ива зелёная ламп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Джон Ив смог добиться многог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чём смысл рассказ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Дидактические цели.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учащихся  анализировать тек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итание гуманности, привитие чуткости и и доброты на основе произ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вать умение выделять главное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Представление результатов исследования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ссе на тем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н -один из немногих  ,кого следует иметь в походной аптечке против ожирения сердца и усталост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Мы будем изучать следующее: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 А.С. Грина «Зелёная ламп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графию А.С .Грин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ировать рассказ А.С .Грина «Зелёная ламп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орчество А.С. Гр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Продолжительность проект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ва урока, по 45 мину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Информационные ресурсы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бник для 8 класса общественных  учреждений /Г.И. Беленький-М., «Просвещение»,199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Я. Коровина. Уроки литературы 8кл. Уроки для учителя-М., «Просвещение»,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6:48:10Z</dcterms:created>
  <dc:creator>Миша</dc:creator>
  <dc:description/>
  <dc:language>en-US</dc:language>
  <cp:lastModifiedBy>Миша</cp:lastModifiedBy>
  <dcterms:modified xsi:type="dcterms:W3CDTF">2010-04-18T13:04:21Z</dcterms:modified>
  <cp:revision>9</cp:revision>
  <dc:subject/>
  <dc:title>«Зеленый свет мечты и надежды» (по рассказу А.Грина «Зеленая лампа»</dc:title>
</cp:coreProperties>
</file>